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907588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0D981-EE2A-4A33-8234-5D398A9338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C3379-182A-4FC5-9452-8E09E0FC54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86055-A6A9-4C3B-9FC9-6F495479CA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4F799-E0A1-4120-A2F5-F9AAB15FCB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96BD9-5E02-4D06-A922-DCD1551B4D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A8BD8-BE49-4CD0-90EF-92E3090EDC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908BF-0680-4D31-8222-545FF50CD0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638E0-7BE0-482B-BF7B-950C21ADC4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5000" y="396720"/>
            <a:ext cx="765648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B3BE5-0524-4934-AC06-72EBA40B77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53D34-2022-4639-A6E4-7C7F5CFF1E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7E4B7-6E61-46FD-8646-AE0EBA5B6A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277C5-E53C-473D-B3D7-C5BEAE8CA2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>
            <a:off x="3240" y="1440"/>
            <a:ext cx="9889920" cy="86868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821720" y="6585120"/>
            <a:ext cx="2063520" cy="26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DB0D0EBD-15FA-4B50-BEE6-6745EF31DF24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33"/>
          <p:cNvSpPr/>
          <p:nvPr/>
        </p:nvSpPr>
        <p:spPr>
          <a:xfrm>
            <a:off x="1908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CALL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Dokumentation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. gedruckt am: </a:t>
            </a:r>
            <a:fld id="{14E45374-9AC2-468F-AA8C-3718042B7C42}" type="datetime">
              <a:rPr b="0" lang="de-DE" sz="9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4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Grafik 2" descr=""/>
          <p:cNvPicPr/>
          <p:nvPr/>
        </p:nvPicPr>
        <p:blipFill>
          <a:blip r:embed="rId9"/>
          <a:srcRect l="78420" t="0" r="0" b="0"/>
          <a:stretch/>
        </p:blipFill>
        <p:spPr>
          <a:xfrm>
            <a:off x="8839080" y="44280"/>
            <a:ext cx="970200" cy="5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oliennummernplatzhalter 2"/>
          <p:cNvSpPr/>
          <p:nvPr/>
        </p:nvSpPr>
        <p:spPr>
          <a:xfrm>
            <a:off x="7821720" y="658512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5492159F-C648-4CCD-98B0-AA04EDC9030A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#CustomName# Upgrade #NX#  - #TC#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358920" y="2374920"/>
            <a:ext cx="928836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0" bIns="0" anchor="ctr">
            <a:noAutofit/>
          </a:bodyPr>
          <a:p>
            <a:pPr>
              <a:tabLst>
                <a:tab algn="l" pos="0"/>
                <a:tab algn="l" pos="10796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CALL: 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#CallNr#  </a:t>
            </a:r>
            <a:br>
              <a:rPr sz="2600"/>
            </a:b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#CallDescription#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358920" y="4724280"/>
            <a:ext cx="4125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6680" indent="-1666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rstellt: </a:t>
            </a: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#??.??.201?#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Von:</a:t>
            </a: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#Name1#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Stand:</a:t>
            </a: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#??.??.201?#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Beschreibung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oliennummernplatzhalter 2"/>
          <p:cNvSpPr/>
          <p:nvPr/>
        </p:nvSpPr>
        <p:spPr>
          <a:xfrm>
            <a:off x="7821720" y="658512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2BA46EC7-189E-4154-9798-ED9EE8731F2F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feld 3"/>
          <p:cNvSpPr/>
          <p:nvPr/>
        </p:nvSpPr>
        <p:spPr>
          <a:xfrm>
            <a:off x="236520" y="106848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Bitte hier den Beschreibungstext einfüg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131"/>
          <p:cNvSpPr/>
          <p:nvPr/>
        </p:nvSpPr>
        <p:spPr>
          <a:xfrm>
            <a:off x="-411120" y="2382840"/>
            <a:ext cx="216000" cy="21600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132"/>
          <p:cNvSpPr/>
          <p:nvPr/>
        </p:nvSpPr>
        <p:spPr>
          <a:xfrm>
            <a:off x="-411120" y="2673360"/>
            <a:ext cx="216000" cy="21600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33"/>
          <p:cNvSpPr/>
          <p:nvPr/>
        </p:nvSpPr>
        <p:spPr>
          <a:xfrm>
            <a:off x="-411120" y="3013200"/>
            <a:ext cx="216000" cy="21744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Object 7"/>
          <p:cNvGraphicFramePr/>
          <p:nvPr/>
        </p:nvGraphicFramePr>
        <p:xfrm>
          <a:off x="-411120" y="3392640"/>
          <a:ext cx="304920" cy="30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11120" y="3392640"/>
                    <a:ext cx="30492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" name="Picture 8" descr="wichtig"/>
          <p:cNvPicPr/>
          <p:nvPr/>
        </p:nvPicPr>
        <p:blipFill>
          <a:blip r:embed="rId3"/>
          <a:stretch/>
        </p:blipFill>
        <p:spPr>
          <a:xfrm>
            <a:off x="-438120" y="3857760"/>
            <a:ext cx="331920" cy="312480"/>
          </a:xfrm>
          <a:prstGeom prst="rect">
            <a:avLst/>
          </a:prstGeom>
          <a:ln w="0">
            <a:noFill/>
          </a:ln>
        </p:spPr>
      </p:pic>
      <p:sp>
        <p:nvSpPr>
          <p:cNvPr id="56" name="Oval 131"/>
          <p:cNvSpPr/>
          <p:nvPr/>
        </p:nvSpPr>
        <p:spPr>
          <a:xfrm>
            <a:off x="-411120" y="2097000"/>
            <a:ext cx="216000" cy="21600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9:19:42Z</dcterms:created>
  <dc:creator>Josef Feuerstein</dc:creator>
  <dc:description/>
  <dc:language>en-US</dc:language>
  <cp:lastModifiedBy>Josef Feuerstein</cp:lastModifiedBy>
  <cp:lastPrinted>2002-04-15T13:20:54Z</cp:lastPrinted>
  <dcterms:modified xsi:type="dcterms:W3CDTF">2012-08-09T09:13:30Z</dcterms:modified>
  <cp:revision>159</cp:revision>
  <dc:subject/>
  <dc:title>Refile Manager V1.0</dc:title>
</cp:coreProperties>
</file>